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AAB7-D79D-4F30-A07E-1107F1429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7DDC-9F09-43BA-BBFC-4B2959570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DE41-60EA-4687-A343-2F98BD315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2880-C98D-45C0-9010-4C892E1DE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135EF-6AA1-411A-8646-8B0915AF4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A2999-BDF2-4C8E-B648-8CC001CA8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8BA33-AE1A-4E38-8ABA-19DEC3CEB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C1131-9647-4D02-A671-E6476BE37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7A52F-E641-457B-9503-1212CC88B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D69D1-60FC-4844-B4EF-E18022190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6AE4B-DAA4-4C6C-BCCE-656934E6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1E91-2885-461D-88F9-4C1999B08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4E271-5D27-4BF4-9830-6FEEA4F05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1C8C7-0351-47CD-AC84-4CE10DAC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6ADE0-AAFD-4630-A0FE-4C9F2872B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10D2B-7C29-4C71-8B26-50910C881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ED617-D1C2-417D-9F18-1B5D49413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84AD-1E90-45E5-BC74-C4355BCA4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DE23-6DA2-4B6A-881E-F9D69396F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3399-4646-4034-B9DF-C176A081F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2A2E-0557-4A82-94ED-44D98AEC6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52B6-DFD2-4582-A18C-8CE366A7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C270-D10C-4A32-8B05-949594CA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A588-8971-4E9A-8323-B3ACB245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34A58-C7D3-4950-9889-8838CBA1CC9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95188-A14C-4F87-8044-C74164F8D98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Programma del cors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4560" y="1699920"/>
            <a:ext cx="950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Introduzione agli algoritm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Rappresentazione delle Informazion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Architettura del calcolato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Reti di Calcolator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Elementi di Programmazion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"/>
          <p:cNvSpPr/>
          <p:nvPr/>
        </p:nvSpPr>
        <p:spPr>
          <a:xfrm>
            <a:off x="179280" y="5300640"/>
            <a:ext cx="287280" cy="2890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Visual Basic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inguaggio di programmazione per lo sviluppo di applicazioni da eseguire in un qualunque ambiente Microsoft Window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isual Basic è un’implementazione Microsoft dell’originario linguaggio Basic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Visual Basic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inguaggio di programmazion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 alto livel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terpretato (ambiente interattivo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sua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uidato dagli event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Processo di programmazione in Visual Basic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getto dell’applicazion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reazione dell’interfaccia grafic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ggiunta del codice agli elementi visiv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secuzion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Processo di programmazione in Visual Basic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1969920"/>
            <a:ext cx="8964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 programma è costituita d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trolli (ciascuno rappresentato da un’icona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struzion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’interazione dell’utente con un qualunque controllo rappresenta un event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 ogni controllo sono associati diversi event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l codice è suddiviso in blocchi (routin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a routine contiene il codice eseguito quando viene generato un evento su un controllo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del mouse, pressione di un tasto, apertura di una finestra, ecc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Tipi di dat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79280" y="1752480"/>
            <a:ext cx="9288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6699"/>
                </a:solidFill>
                <a:latin typeface="Verdana"/>
              </a:rPr>
              <a:t>Integer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(valori interi -32768 a 32767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Esempio: 0, 123, -4534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6699"/>
                </a:solidFill>
                <a:latin typeface="Verdana"/>
              </a:rPr>
              <a:t>Double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(valori reali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Esempio: 0, 12.34, 0,123 E+123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6699"/>
                </a:solidFill>
                <a:latin typeface="Verdana"/>
              </a:rPr>
              <a:t>String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Esempio: “Ciao”, “Inserisci il primo numero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6699"/>
                </a:solidFill>
                <a:latin typeface="Verdana"/>
              </a:rPr>
              <a:t>Boolean 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(valori true e fals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Operator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398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Operatori matematici:+, -, *, /, Mod, \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Operatori su stringhe: + oppure &amp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Esempio: “Visual” &amp; “Basic” = “VisualBasic”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Operatori condizionali: =, &lt;=, &gt;=, &lt;, &gt;, &lt;&gt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Operatori logici: AND, OR, XOR, NO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60436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ostrutti di bas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250920" y="1915920"/>
            <a:ext cx="835344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Definizione delle variabili usate nel programma e del loro tipo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336699"/>
                </a:solidFill>
                <a:latin typeface="Verdana"/>
              </a:rPr>
              <a:t>Dim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 SOMMA, N </a:t>
            </a:r>
            <a:r>
              <a:rPr b="1" lang="it-IT" sz="3000" spc="-1" strike="noStrike">
                <a:solidFill>
                  <a:srgbClr val="336699"/>
                </a:solidFill>
                <a:latin typeface="Verdana"/>
              </a:rPr>
              <a:t>As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3000" spc="-1" strike="noStrike">
                <a:solidFill>
                  <a:srgbClr val="cc0000"/>
                </a:solidFill>
                <a:latin typeface="Verdana"/>
              </a:rPr>
              <a:t>Integ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336699"/>
                </a:solidFill>
                <a:latin typeface="Verdana"/>
              </a:rPr>
              <a:t>Dim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 NOME </a:t>
            </a:r>
            <a:r>
              <a:rPr b="1" lang="it-IT" sz="3000" spc="-1" strike="noStrike">
                <a:solidFill>
                  <a:srgbClr val="336699"/>
                </a:solidFill>
                <a:latin typeface="Verdana"/>
              </a:rPr>
              <a:t>As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3000" spc="-1" strike="noStrike">
                <a:solidFill>
                  <a:srgbClr val="cc0000"/>
                </a:solidFill>
                <a:latin typeface="Verdana"/>
              </a:rPr>
              <a:t>Str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336699"/>
                </a:solidFill>
                <a:latin typeface="Verdana"/>
              </a:rPr>
              <a:t>Dim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 RISULTATO </a:t>
            </a:r>
            <a:r>
              <a:rPr b="1" lang="it-IT" sz="3000" spc="-1" strike="noStrike">
                <a:solidFill>
                  <a:srgbClr val="336699"/>
                </a:solidFill>
                <a:latin typeface="Verdana"/>
              </a:rPr>
              <a:t>As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3000" spc="-1" strike="noStrike">
                <a:solidFill>
                  <a:srgbClr val="cc0000"/>
                </a:solidFill>
                <a:latin typeface="Verdana"/>
              </a:rPr>
              <a:t>Doub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179280" y="1916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ssegnamento di un valore ad una variabil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IPPO = 5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UTO = 7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ISULTATO = PIPPO/PLU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ESTO = “Ciao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title"/>
          </p:nvPr>
        </p:nvSpPr>
        <p:spPr>
          <a:xfrm>
            <a:off x="394920" y="620640"/>
            <a:ext cx="860436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ostrutti di bas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468360" y="1773000"/>
            <a:ext cx="9144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Ingresso/Usci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6699"/>
                </a:solidFill>
                <a:latin typeface="Verdana"/>
              </a:rPr>
              <a:t>X = InputBox(“Dammi X”)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(leggi X da input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6699"/>
                </a:solidFill>
                <a:latin typeface="Verdana"/>
              </a:rPr>
              <a:t>Print X+3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(stampa il risultato di X+3 su output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394920" y="620640"/>
            <a:ext cx="860436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ostrutti di bas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755280" y="1773360"/>
            <a:ext cx="8643960" cy="46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Azioni condizional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it-IT" sz="3000" spc="-1" strike="noStrike">
                <a:solidFill>
                  <a:srgbClr val="336699"/>
                </a:solidFill>
                <a:latin typeface="Verdana"/>
              </a:rPr>
              <a:t>If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 A*A+B*B = C*C </a:t>
            </a:r>
            <a:r>
              <a:rPr b="1" lang="it-IT" sz="3000" spc="-1" strike="noStrike">
                <a:solidFill>
                  <a:srgbClr val="336699"/>
                </a:solidFill>
                <a:latin typeface="Verdana"/>
              </a:rPr>
              <a:t>Th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it-IT" sz="3000" spc="-1" strike="noStrike">
                <a:solidFill>
                  <a:srgbClr val="336699"/>
                </a:solidFill>
                <a:latin typeface="Verdana"/>
              </a:rPr>
              <a:t>Print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 “Triangolo rettangolo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it-IT" sz="3000" spc="-1" strike="noStrike">
                <a:solidFill>
                  <a:srgbClr val="336699"/>
                </a:solidFill>
                <a:latin typeface="Verdana"/>
              </a:rPr>
              <a:t>Els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it-IT" sz="3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it-IT" sz="3000" spc="-1" strike="noStrike">
                <a:solidFill>
                  <a:srgbClr val="336699"/>
                </a:solidFill>
                <a:latin typeface="Verdana"/>
              </a:rPr>
              <a:t>Print</a:t>
            </a:r>
            <a:r>
              <a:rPr b="0" lang="it-IT" sz="30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“Triangolo non rettangolo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it-IT" sz="3000" spc="-1" strike="noStrike">
                <a:solidFill>
                  <a:srgbClr val="336699"/>
                </a:solidFill>
                <a:latin typeface="Verdana"/>
              </a:rPr>
              <a:t>End If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title"/>
          </p:nvPr>
        </p:nvSpPr>
        <p:spPr>
          <a:xfrm>
            <a:off x="394920" y="620640"/>
            <a:ext cx="860436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ostrutti di bas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280" y="304920"/>
            <a:ext cx="8964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Ricerca del massimo tra tre numeri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Leggi N1, N2, N3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Poni in massimo uguale al numero N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MAX &gt; N2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SI  ---</a:t>
            </a:r>
            <a:r>
              <a:rPr b="0" lang="it-IT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 CONTINU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NO ---</a:t>
            </a:r>
            <a:r>
              <a:rPr b="0" lang="it-IT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 N2 è il nuovo massim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MAX &gt; N3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SI  ---</a:t>
            </a:r>
            <a:r>
              <a:rPr b="0" lang="it-IT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 CONTINU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NO ---</a:t>
            </a:r>
            <a:r>
              <a:rPr b="0" lang="it-IT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 N3 è il nuovo massim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Stampa MAX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468000" y="1773360"/>
            <a:ext cx="8821800" cy="46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Azioni ripetu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it-IT" sz="3000" spc="-1" strike="noStrike">
                <a:solidFill>
                  <a:srgbClr val="336699"/>
                </a:solidFill>
                <a:latin typeface="Verdana"/>
              </a:rPr>
              <a:t>While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 (I &lt; 100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SOMMA = SOMMA + X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I = I + 1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it-IT" sz="3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it-IT" sz="3000" spc="-1" strike="noStrike">
                <a:solidFill>
                  <a:srgbClr val="336699"/>
                </a:solidFill>
                <a:latin typeface="Verdana"/>
              </a:rPr>
              <a:t>Wen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title"/>
          </p:nvPr>
        </p:nvSpPr>
        <p:spPr>
          <a:xfrm>
            <a:off x="394920" y="620640"/>
            <a:ext cx="860436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ostrutti di bas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987280" y="620640"/>
            <a:ext cx="554508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Esemp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395280" y="1628640"/>
            <a:ext cx="4248000" cy="4464360"/>
            <a:chOff x="395280" y="1628640"/>
            <a:chExt cx="4248000" cy="4464360"/>
          </a:xfrm>
        </p:grpSpPr>
        <p:grpSp>
          <p:nvGrpSpPr>
            <p:cNvPr id="303" name=""/>
            <p:cNvGrpSpPr/>
            <p:nvPr/>
          </p:nvGrpSpPr>
          <p:grpSpPr>
            <a:xfrm>
              <a:off x="2034720" y="1972080"/>
              <a:ext cx="1315080" cy="565560"/>
              <a:chOff x="2034720" y="1972080"/>
              <a:chExt cx="1315080" cy="565560"/>
            </a:xfrm>
          </p:grpSpPr>
          <p:sp>
            <p:nvSpPr>
              <p:cNvPr id="304" name=""/>
              <p:cNvSpPr/>
              <p:nvPr/>
            </p:nvSpPr>
            <p:spPr>
              <a:xfrm>
                <a:off x="2034720" y="1972080"/>
                <a:ext cx="1315080" cy="5655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150280" y="1974600"/>
                <a:ext cx="112752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START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928800" y="2894400"/>
              <a:ext cx="3590640" cy="520560"/>
              <a:chOff x="928800" y="2894400"/>
              <a:chExt cx="3590640" cy="520560"/>
            </a:xfrm>
          </p:grpSpPr>
          <p:sp>
            <p:nvSpPr>
              <p:cNvPr id="307" name=""/>
              <p:cNvSpPr/>
              <p:nvPr/>
            </p:nvSpPr>
            <p:spPr>
              <a:xfrm>
                <a:off x="928800" y="2899440"/>
                <a:ext cx="3590640" cy="502920"/>
              </a:xfrm>
              <a:prstGeom prst="flowChartInputOutpu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427400" y="2894400"/>
                <a:ext cx="2591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Leggi X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" name=""/>
            <p:cNvSpPr/>
            <p:nvPr/>
          </p:nvSpPr>
          <p:spPr>
            <a:xfrm>
              <a:off x="395280" y="3839040"/>
              <a:ext cx="4248000" cy="459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 = X * 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1054080" y="4716720"/>
              <a:ext cx="3120120" cy="508320"/>
              <a:chOff x="1054080" y="4716720"/>
              <a:chExt cx="3120120" cy="508320"/>
            </a:xfrm>
          </p:grpSpPr>
          <p:sp>
            <p:nvSpPr>
              <p:cNvPr id="311" name=""/>
              <p:cNvSpPr/>
              <p:nvPr/>
            </p:nvSpPr>
            <p:spPr>
              <a:xfrm>
                <a:off x="1054080" y="4721760"/>
                <a:ext cx="3120120" cy="503280"/>
              </a:xfrm>
              <a:prstGeom prst="flowChartInputOutpu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80040" y="4716720"/>
                <a:ext cx="2180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Stampa P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2040840" y="5527440"/>
              <a:ext cx="1314720" cy="565560"/>
              <a:chOff x="2040840" y="5527440"/>
              <a:chExt cx="1314720" cy="565560"/>
            </a:xfrm>
          </p:grpSpPr>
          <p:sp>
            <p:nvSpPr>
              <p:cNvPr id="314" name=""/>
              <p:cNvSpPr/>
              <p:nvPr/>
            </p:nvSpPr>
            <p:spPr>
              <a:xfrm>
                <a:off x="2040840" y="5527440"/>
                <a:ext cx="1314720" cy="5655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156400" y="5528520"/>
                <a:ext cx="1127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STOP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" name=""/>
            <p:cNvSpPr/>
            <p:nvPr/>
          </p:nvSpPr>
          <p:spPr>
            <a:xfrm>
              <a:off x="2696760" y="1628640"/>
              <a:ext cx="0" cy="322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696760" y="2561040"/>
              <a:ext cx="0" cy="32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696760" y="3413880"/>
              <a:ext cx="0" cy="423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696760" y="4345200"/>
              <a:ext cx="0" cy="423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696760" y="5198400"/>
              <a:ext cx="0" cy="36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5148360" y="2535120"/>
            <a:ext cx="16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694400" y="1557360"/>
            <a:ext cx="4485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ub mai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m X,P as Inte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X = InputBox(“Dammi X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 = X*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INT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nd su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Area di un rettangol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577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336699"/>
                </a:solidFill>
                <a:latin typeface="Verdana"/>
              </a:rPr>
              <a:t>Sub</a:t>
            </a:r>
            <a:r>
              <a:rPr b="1" lang="it-IT" sz="3000" spc="-1" strike="noStrike">
                <a:solidFill>
                  <a:srgbClr val="000000"/>
                </a:solidFill>
                <a:latin typeface="Verdana"/>
              </a:rPr>
              <a:t> main(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it-IT" sz="3000" spc="-1" strike="noStrike">
                <a:solidFill>
                  <a:srgbClr val="336699"/>
                </a:solidFill>
                <a:latin typeface="Verdana"/>
              </a:rPr>
              <a:t>Dim</a:t>
            </a:r>
            <a:r>
              <a:rPr b="1" lang="it-IT" sz="3000" spc="-1" strike="noStrike">
                <a:solidFill>
                  <a:srgbClr val="000000"/>
                </a:solidFill>
                <a:latin typeface="Verdana"/>
              </a:rPr>
              <a:t> base, altezza, area as Integ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it-IT" sz="3000" spc="-1" strike="noStrike">
                <a:solidFill>
                  <a:srgbClr val="000000"/>
                </a:solidFill>
                <a:latin typeface="Verdana"/>
              </a:rPr>
              <a:t>base = InputBox(“Inserisci la base:”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it-IT" sz="3000" spc="-1" strike="noStrike">
                <a:solidFill>
                  <a:srgbClr val="000000"/>
                </a:solidFill>
                <a:latin typeface="Verdana"/>
              </a:rPr>
              <a:t>altezza = InputBox(“Inserisci l’altezza”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it-IT" sz="3000" spc="-1" strike="noStrike">
                <a:solidFill>
                  <a:srgbClr val="000000"/>
                </a:solidFill>
                <a:latin typeface="Verdana"/>
              </a:rPr>
              <a:t>area = base*altezz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it-IT" sz="3000" spc="-1" strike="noStrike">
                <a:solidFill>
                  <a:srgbClr val="336699"/>
                </a:solidFill>
                <a:latin typeface="Verdana"/>
              </a:rPr>
              <a:t>Print</a:t>
            </a:r>
            <a:r>
              <a:rPr b="1" lang="it-IT" sz="3000" spc="-1" strike="noStrike">
                <a:solidFill>
                  <a:srgbClr val="000000"/>
                </a:solidFill>
                <a:latin typeface="Verdana"/>
              </a:rPr>
              <a:t> area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336699"/>
                </a:solidFill>
                <a:latin typeface="Verdana"/>
              </a:rPr>
              <a:t>End Sub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39280" y="83628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ire se un triangolo è equilatero, isoscele o scaleno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39280" y="1787400"/>
            <a:ext cx="8334360" cy="50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Sub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Main(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Dim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A, B, C </a:t>
            </a: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As Integ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A = InputBox("Inserisci il lato A"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B = InputBox("Inserisci il lato B"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C = InputBox("Inserisci il lato C"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If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A = B </a:t>
            </a: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And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B = C </a:t>
            </a: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Print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"Triangolo Equilatero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ElseIf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A = B </a:t>
            </a: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Or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B = C </a:t>
            </a: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Or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C = A </a:t>
            </a: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Print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"Triangolo Isoscele“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  </a:t>
            </a: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Print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"Triangolo Scaleno“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End If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End Su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1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-36720" y="40428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000000"/>
                </a:solidFill>
                <a:latin typeface="Verdana"/>
              </a:rPr>
              <a:t>Trasformare la propria media espressa in trentesimi in centodecimi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98600" y="1860480"/>
            <a:ext cx="8681760" cy="50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6699"/>
                </a:solidFill>
                <a:latin typeface="Verdana"/>
              </a:rPr>
              <a:t>Sub Main</a:t>
            </a: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(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it-IT" sz="2800" spc="-1" strike="noStrike">
                <a:solidFill>
                  <a:srgbClr val="336699"/>
                </a:solidFill>
                <a:latin typeface="Verdana"/>
              </a:rPr>
              <a:t>Dim</a:t>
            </a: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 A </a:t>
            </a:r>
            <a:r>
              <a:rPr b="1" lang="it-IT" sz="2800" spc="-1" strike="noStrike">
                <a:solidFill>
                  <a:srgbClr val="336699"/>
                </a:solidFill>
                <a:latin typeface="Verdana"/>
              </a:rPr>
              <a:t>As Integ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A = InputBox("Dammi la tua media"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it-IT" sz="2800" spc="-1" strike="noStrike">
                <a:solidFill>
                  <a:srgbClr val="336699"/>
                </a:solidFill>
                <a:latin typeface="Verdana"/>
              </a:rPr>
              <a:t>Print</a:t>
            </a: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 "La tua media espressa in centodecimi è"; A / 3*1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6699"/>
                </a:solidFill>
                <a:latin typeface="Verdana"/>
              </a:rPr>
              <a:t>End Su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Calcolare la media dei propri voti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79280" y="1773000"/>
            <a:ext cx="885672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Sub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Main(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     </a:t>
            </a: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Dim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Voto, NumeroVoti, Somma </a:t>
            </a: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as Integ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     </a:t>
            </a: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Print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“Inserisci i tuoi voti” 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Somma = 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NumeroVoti = 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Voto = </a:t>
            </a: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InputBox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(“Inserisci un voto (-1 per finire)”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     </a:t>
            </a: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While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Voto &lt;&gt; -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NumeroVoti = NumeroVoti + 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Somma = Somma + Vo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Voto = </a:t>
            </a: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InputBox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(“Inserisci un voto (-1 per finire)”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     </a:t>
            </a: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We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     </a:t>
            </a: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MsgBox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“La tua media è” &amp; Somma/NumeroVoti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End Su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15640" y="475920"/>
            <a:ext cx="89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are per quanti giorni la temperatura è stata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uperiore ai 30 grad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74680" y="1860480"/>
            <a:ext cx="8905680" cy="50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6699"/>
                </a:solidFill>
                <a:latin typeface="Verdana"/>
              </a:rPr>
              <a:t>Sub Main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it-IT" sz="1800" spc="-1" strike="noStrike">
                <a:solidFill>
                  <a:srgbClr val="336699"/>
                </a:solidFill>
                <a:latin typeface="Verdana"/>
              </a:rPr>
              <a:t>Dim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Conta, Temperatura </a:t>
            </a:r>
            <a:r>
              <a:rPr b="1" lang="it-IT" sz="1800" spc="-1" strike="noStrike">
                <a:solidFill>
                  <a:srgbClr val="336699"/>
                </a:solidFill>
                <a:latin typeface="Verdana"/>
              </a:rPr>
              <a:t>As Integ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Conta = 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it-IT" sz="1800" spc="-1" strike="noStrike">
                <a:solidFill>
                  <a:srgbClr val="336699"/>
                </a:solidFill>
                <a:latin typeface="Verdana"/>
              </a:rPr>
              <a:t>MsgBox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"Inserisci una serie di temperature quotidiane (terminata da -400)“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Temperatura = InputBox("Dammi un valore di temperatura"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it-IT" sz="1800" spc="-1" strike="noStrike">
                <a:solidFill>
                  <a:srgbClr val="336699"/>
                </a:solidFill>
                <a:latin typeface="Verdana"/>
              </a:rPr>
              <a:t>While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Temperatura &lt;&gt; -4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it-IT" sz="1800" spc="-1" strike="noStrike">
                <a:solidFill>
                  <a:srgbClr val="336699"/>
                </a:solidFill>
                <a:latin typeface="Verdana"/>
              </a:rPr>
              <a:t>If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Temperatura &gt; 30 Th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Conta = Conta + 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it-IT" sz="1800" spc="-1" strike="noStrike">
                <a:solidFill>
                  <a:srgbClr val="336699"/>
                </a:solidFill>
                <a:latin typeface="Verdana"/>
              </a:rPr>
              <a:t>End If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Temperatura = InputBox("Dammi un valore di temperatura"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6699"/>
                </a:solidFill>
                <a:latin typeface="Verdana"/>
              </a:rPr>
              <a:t>    </a:t>
            </a:r>
            <a:r>
              <a:rPr b="1" lang="it-IT" sz="1800" spc="-1" strike="noStrike">
                <a:solidFill>
                  <a:srgbClr val="336699"/>
                </a:solidFill>
                <a:latin typeface="Verdana"/>
              </a:rPr>
              <a:t>Wen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it-IT" sz="1800" spc="-1" strike="noStrike">
                <a:solidFill>
                  <a:srgbClr val="336699"/>
                </a:solidFill>
                <a:latin typeface="Verdana"/>
              </a:rPr>
              <a:t>MsgBox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"Il numero totale di giorni afosi è “ &amp; Con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6699"/>
                </a:solidFill>
                <a:latin typeface="Verdana"/>
              </a:rPr>
              <a:t>End Su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5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60360" y="4759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alcolare se un certo anno sarà bisesti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37600" y="1716120"/>
            <a:ext cx="8682120" cy="50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Sub Main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Dim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Anno </a:t>
            </a: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As Integ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Anno = InputBox("Inserisci l'anno"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If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Anno </a:t>
            </a: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Mod 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4 = 0 Th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If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Anno </a:t>
            </a: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Mod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100 = 0 </a:t>
            </a: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And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Anno </a:t>
            </a: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Mod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400 &lt;&gt; 0 Th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MsgBox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"Anno Non Bisestile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            </a:t>
            </a: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MsgBox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"Anno bisestile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End If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MsgBox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"Anno Non bisestile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End If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End Sub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8137440" cy="16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000000"/>
                </a:solidFill>
                <a:latin typeface="Verdana"/>
              </a:rPr>
              <a:t>Sommare 100 numeri</a:t>
            </a:r>
            <a:br>
              <a:rPr sz="3400"/>
            </a:br>
            <a:r>
              <a:rPr b="1" lang="it-IT" sz="3400" spc="-1" strike="noStrike">
                <a:solidFill>
                  <a:srgbClr val="000000"/>
                </a:solidFill>
                <a:latin typeface="Verdana"/>
              </a:rPr>
              <a:t>(Trovare l’errore…)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78920" y="1483920"/>
            <a:ext cx="30243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Conta = 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6699"/>
                </a:solidFill>
                <a:latin typeface="Verdana"/>
              </a:rPr>
              <a:t>While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Conta &lt; 1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Somma = 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Num = InputBox(“”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Somma = Somma + Nu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Conta = Conta + 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6699"/>
                </a:solidFill>
                <a:latin typeface="Verdana"/>
              </a:rPr>
              <a:t>Wen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6699"/>
                </a:solidFill>
                <a:latin typeface="Verdana"/>
              </a:rPr>
              <a:t>MsgBox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Somm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"/>
          <p:cNvSpPr/>
          <p:nvPr/>
        </p:nvSpPr>
        <p:spPr>
          <a:xfrm>
            <a:off x="3429000" y="1276200"/>
            <a:ext cx="2952720" cy="41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Conta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Somma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6699"/>
                </a:solidFill>
                <a:latin typeface="Verdana"/>
              </a:rPr>
              <a:t>While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Conta &lt;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Num = InputBox(“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Somma = Somma +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6699"/>
                </a:solidFill>
                <a:latin typeface="Verdana"/>
              </a:rPr>
              <a:t>W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6699"/>
                </a:solidFill>
                <a:latin typeface="Verdana"/>
              </a:rPr>
              <a:t>MsgBox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Som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418440" y="1257480"/>
            <a:ext cx="280476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Conta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Somma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6699"/>
                </a:solidFill>
                <a:latin typeface="Verdana"/>
              </a:rPr>
              <a:t>While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Conta &lt;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Num = InputBox(“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Conta = Conta + 1</a:t>
            </a:r>
            <a:r>
              <a:rPr b="1" lang="it-IT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6699"/>
                </a:solidFill>
                <a:latin typeface="Verdana"/>
              </a:rPr>
              <a:t>W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6699"/>
                </a:solidFill>
                <a:latin typeface="Verdana"/>
              </a:rPr>
              <a:t>MsgBox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Som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8720" y="304920"/>
            <a:ext cx="925164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Ricerca del massimo tra tre numeri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"/>
          <p:cNvSpPr/>
          <p:nvPr/>
        </p:nvSpPr>
        <p:spPr>
          <a:xfrm>
            <a:off x="1258920" y="2060640"/>
            <a:ext cx="1079640" cy="504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2360" y="2925720"/>
            <a:ext cx="2879640" cy="503280"/>
          </a:xfrm>
          <a:prstGeom prst="parallelogram">
            <a:avLst>
              <a:gd name="adj" fmla="val 143044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ggi N1, N2, N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63640" y="2565360"/>
            <a:ext cx="0" cy="358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42920" y="3716280"/>
            <a:ext cx="1513080" cy="64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X = 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63640" y="342900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14560" y="4581360"/>
            <a:ext cx="1296720" cy="1152720"/>
          </a:xfrm>
          <a:prstGeom prst="diamond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X &gt; 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63640" y="4365720"/>
            <a:ext cx="0" cy="215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63640" y="5734080"/>
            <a:ext cx="0" cy="358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63640" y="6093000"/>
            <a:ext cx="324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003640" y="1844280"/>
            <a:ext cx="0" cy="4248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03640" y="1844640"/>
            <a:ext cx="158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940360" y="2133720"/>
            <a:ext cx="1297080" cy="1152360"/>
          </a:xfrm>
          <a:prstGeom prst="diamond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X &gt; N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916360" y="4797360"/>
            <a:ext cx="1512720" cy="64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X = 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11280" y="5157720"/>
            <a:ext cx="505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5445000"/>
            <a:ext cx="0" cy="432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763280" y="5877000"/>
            <a:ext cx="1871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588000" y="1844640"/>
            <a:ext cx="0" cy="289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292720" y="3789360"/>
            <a:ext cx="2879640" cy="503280"/>
          </a:xfrm>
          <a:prstGeom prst="parallelogram">
            <a:avLst>
              <a:gd name="adj" fmla="val 143044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ampa M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88000" y="3284640"/>
            <a:ext cx="0" cy="504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13440" y="4797360"/>
            <a:ext cx="1079640" cy="504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588000" y="4292640"/>
            <a:ext cx="0" cy="504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451640" y="2349360"/>
            <a:ext cx="1513080" cy="64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X = N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172360" y="2997360"/>
            <a:ext cx="0" cy="502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236000" y="2708280"/>
            <a:ext cx="215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6587640" y="3500280"/>
            <a:ext cx="1584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9280" y="304920"/>
            <a:ext cx="846144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Ricerca del massimo tra N numeri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611280" y="2133720"/>
            <a:ext cx="1079280" cy="504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16000" y="2638440"/>
            <a:ext cx="0" cy="214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5280" y="3645000"/>
            <a:ext cx="151272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X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16000" y="335772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16000" y="5013360"/>
            <a:ext cx="0" cy="107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16000" y="6093000"/>
            <a:ext cx="1441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2556000" y="1844280"/>
            <a:ext cx="0" cy="4248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56000" y="1844640"/>
            <a:ext cx="2303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11640" y="2276640"/>
            <a:ext cx="1297080" cy="792000"/>
          </a:xfrm>
          <a:prstGeom prst="diamond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&lt;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859280" y="1844640"/>
            <a:ext cx="0" cy="432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36000" y="3860640"/>
            <a:ext cx="1079280" cy="505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580000" y="4724280"/>
            <a:ext cx="2016360" cy="433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X 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84720" y="5445000"/>
            <a:ext cx="1224000" cy="43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= I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4858920" y="3068640"/>
            <a:ext cx="1800" cy="289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859280" y="3860640"/>
            <a:ext cx="0" cy="289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859280" y="5877000"/>
            <a:ext cx="0" cy="21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740720" y="3500280"/>
            <a:ext cx="0" cy="36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740720" y="2637000"/>
            <a:ext cx="0" cy="36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276720" y="6093000"/>
            <a:ext cx="1582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3276720" y="2060280"/>
            <a:ext cx="0" cy="403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76720" y="2060640"/>
            <a:ext cx="15825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508720" y="2637000"/>
            <a:ext cx="223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84720" y="2997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580000" y="2205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4920" y="2854440"/>
            <a:ext cx="2160720" cy="503280"/>
          </a:xfrm>
          <a:prstGeom prst="parallelogram">
            <a:avLst>
              <a:gd name="adj" fmla="val 107332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ggi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516720" y="2997360"/>
            <a:ext cx="2627280" cy="502920"/>
          </a:xfrm>
          <a:prstGeom prst="parallelogram">
            <a:avLst>
              <a:gd name="adj" fmla="val 130601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ampa M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16000" y="4149720"/>
            <a:ext cx="0" cy="358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4508640"/>
            <a:ext cx="1512720" cy="50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708360" y="3357720"/>
            <a:ext cx="2484360" cy="502920"/>
          </a:xfrm>
          <a:prstGeom prst="parallelogram">
            <a:avLst>
              <a:gd name="adj" fmla="val 12349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ggi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59280" y="4941720"/>
            <a:ext cx="0" cy="503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211640" y="4149720"/>
            <a:ext cx="1297080" cy="792000"/>
          </a:xfrm>
          <a:prstGeom prst="diamond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X &gt; M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508720" y="4508640"/>
            <a:ext cx="1079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588000" y="4508640"/>
            <a:ext cx="0" cy="215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588000" y="5157720"/>
            <a:ext cx="0" cy="142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4859280" y="5300640"/>
            <a:ext cx="1728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Somma di K numer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611280" y="2133720"/>
            <a:ext cx="1079280" cy="504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920" y="2854440"/>
            <a:ext cx="2160720" cy="503280"/>
          </a:xfrm>
          <a:prstGeom prst="parallelogram">
            <a:avLst>
              <a:gd name="adj" fmla="val 107332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ggi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16000" y="2638440"/>
            <a:ext cx="0" cy="214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5280" y="3645000"/>
            <a:ext cx="151272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16000" y="335772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116000" y="4148280"/>
            <a:ext cx="0" cy="215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16000" y="4869000"/>
            <a:ext cx="0" cy="1224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16000" y="6093000"/>
            <a:ext cx="1441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56000" y="1844280"/>
            <a:ext cx="0" cy="4248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556000" y="1844640"/>
            <a:ext cx="2303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211640" y="2276640"/>
            <a:ext cx="1297080" cy="792000"/>
          </a:xfrm>
          <a:prstGeom prst="diamond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&lt;=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5280" y="4365720"/>
            <a:ext cx="151272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859280" y="1844640"/>
            <a:ext cx="0" cy="432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708360" y="3357720"/>
            <a:ext cx="2303640" cy="502920"/>
          </a:xfrm>
          <a:prstGeom prst="parallelogram">
            <a:avLst>
              <a:gd name="adj" fmla="val 114513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ggi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236000" y="4365720"/>
            <a:ext cx="1079280" cy="504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140360" y="4149720"/>
            <a:ext cx="151272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S = S+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61080" y="3860640"/>
            <a:ext cx="0" cy="289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140360" y="4941720"/>
            <a:ext cx="151272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= I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861080" y="3068640"/>
            <a:ext cx="0" cy="289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861080" y="4653000"/>
            <a:ext cx="0" cy="288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859280" y="5445000"/>
            <a:ext cx="0" cy="289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659640" y="3284640"/>
            <a:ext cx="2303280" cy="503280"/>
          </a:xfrm>
          <a:prstGeom prst="parallelogram">
            <a:avLst>
              <a:gd name="adj" fmla="val 114413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ampa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740720" y="3789360"/>
            <a:ext cx="0" cy="576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740720" y="2637000"/>
            <a:ext cx="0" cy="647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3276720" y="5734080"/>
            <a:ext cx="1582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3276720" y="2060640"/>
            <a:ext cx="0" cy="3673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276720" y="2060640"/>
            <a:ext cx="15825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508720" y="2637000"/>
            <a:ext cx="223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2997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80000" y="2205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23640" y="304920"/>
            <a:ext cx="85690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Prodotto di 2 numeri col metodo delle addizioni successiv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611280" y="2133720"/>
            <a:ext cx="1079280" cy="504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116000" y="2638440"/>
            <a:ext cx="0" cy="214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3645000"/>
            <a:ext cx="151272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D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116000" y="335772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116000" y="4149720"/>
            <a:ext cx="0" cy="1943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116000" y="6093000"/>
            <a:ext cx="1441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2556000" y="1844280"/>
            <a:ext cx="0" cy="4248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56000" y="1844640"/>
            <a:ext cx="2303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211640" y="2276640"/>
            <a:ext cx="1297080" cy="792000"/>
          </a:xfrm>
          <a:prstGeom prst="diamond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859280" y="1844640"/>
            <a:ext cx="0" cy="432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236000" y="4365720"/>
            <a:ext cx="1079280" cy="504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95640" y="3645000"/>
            <a:ext cx="208908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PROD = PROD+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140360" y="4941720"/>
            <a:ext cx="151272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 = N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858920" y="3068640"/>
            <a:ext cx="1800" cy="576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859280" y="4149720"/>
            <a:ext cx="1800" cy="792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59280" y="5445000"/>
            <a:ext cx="0" cy="289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740720" y="3789360"/>
            <a:ext cx="0" cy="576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740720" y="2637000"/>
            <a:ext cx="0" cy="647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3276720" y="5734080"/>
            <a:ext cx="1582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3276720" y="2060640"/>
            <a:ext cx="0" cy="3673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060640"/>
            <a:ext cx="15825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508720" y="2637000"/>
            <a:ext cx="223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284720" y="2997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580000" y="2205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20" y="2854440"/>
            <a:ext cx="2160720" cy="503280"/>
          </a:xfrm>
          <a:prstGeom prst="parallelogram">
            <a:avLst>
              <a:gd name="adj" fmla="val 107332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ggi M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659640" y="3284640"/>
            <a:ext cx="2484360" cy="503280"/>
          </a:xfrm>
          <a:prstGeom prst="parallelogram">
            <a:avLst>
              <a:gd name="adj" fmla="val 123408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ampa PR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Media tra N numer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611280" y="2133720"/>
            <a:ext cx="1079280" cy="504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16000" y="2638440"/>
            <a:ext cx="0" cy="214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95280" y="3645000"/>
            <a:ext cx="151272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16000" y="335772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16000" y="5013360"/>
            <a:ext cx="0" cy="107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116000" y="6093000"/>
            <a:ext cx="1441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56000" y="1844280"/>
            <a:ext cx="0" cy="4248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56000" y="1844640"/>
            <a:ext cx="2303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11640" y="2276640"/>
            <a:ext cx="1297080" cy="792000"/>
          </a:xfrm>
          <a:prstGeom prst="diamond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&lt;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59280" y="1844640"/>
            <a:ext cx="0" cy="432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236000" y="5445000"/>
            <a:ext cx="1079280" cy="505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51280" y="4149720"/>
            <a:ext cx="208908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S = S+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140360" y="4941720"/>
            <a:ext cx="151272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= I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4858920" y="3068640"/>
            <a:ext cx="1800" cy="289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859280" y="3860640"/>
            <a:ext cx="0" cy="289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859280" y="5445000"/>
            <a:ext cx="0" cy="289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740720" y="486900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740720" y="2637000"/>
            <a:ext cx="0" cy="647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3276720" y="5734080"/>
            <a:ext cx="1582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3276720" y="2060640"/>
            <a:ext cx="0" cy="3673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276720" y="2060640"/>
            <a:ext cx="15825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508720" y="2637000"/>
            <a:ext cx="223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284720" y="2997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580000" y="2205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4920" y="2854440"/>
            <a:ext cx="2160720" cy="503280"/>
          </a:xfrm>
          <a:prstGeom prst="parallelogram">
            <a:avLst>
              <a:gd name="adj" fmla="val 107332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ggi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516720" y="4363920"/>
            <a:ext cx="2627280" cy="503280"/>
          </a:xfrm>
          <a:prstGeom prst="parallelogram">
            <a:avLst>
              <a:gd name="adj" fmla="val 130508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ampa 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116000" y="4149720"/>
            <a:ext cx="0" cy="358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95280" y="4508640"/>
            <a:ext cx="1512720" cy="50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708360" y="3357720"/>
            <a:ext cx="2484360" cy="502920"/>
          </a:xfrm>
          <a:prstGeom prst="parallelogram">
            <a:avLst>
              <a:gd name="adj" fmla="val 12349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ggi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859280" y="4653000"/>
            <a:ext cx="0" cy="288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877080" y="3286080"/>
            <a:ext cx="172872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EDIA = S/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740720" y="3789360"/>
            <a:ext cx="0" cy="576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Calcola in un insieme di numeri quanti sono maggiori di 5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"/>
          <p:cNvSpPr/>
          <p:nvPr/>
        </p:nvSpPr>
        <p:spPr>
          <a:xfrm>
            <a:off x="611280" y="2133720"/>
            <a:ext cx="1079280" cy="504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116000" y="2638440"/>
            <a:ext cx="0" cy="214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5280" y="3645000"/>
            <a:ext cx="151272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6000" y="335772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116000" y="5013360"/>
            <a:ext cx="0" cy="107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116000" y="6093000"/>
            <a:ext cx="1441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2556000" y="1844280"/>
            <a:ext cx="0" cy="4248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556000" y="1844640"/>
            <a:ext cx="2303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211640" y="2276640"/>
            <a:ext cx="1297080" cy="792000"/>
          </a:xfrm>
          <a:prstGeom prst="diamond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&lt;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859280" y="1844640"/>
            <a:ext cx="0" cy="432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236000" y="3860640"/>
            <a:ext cx="1079280" cy="505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580000" y="4724280"/>
            <a:ext cx="2016360" cy="433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 = CONT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284720" y="5445000"/>
            <a:ext cx="1224000" cy="43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= I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4858920" y="3068640"/>
            <a:ext cx="1800" cy="289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859280" y="3860640"/>
            <a:ext cx="0" cy="289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859280" y="5877000"/>
            <a:ext cx="0" cy="21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740720" y="3500280"/>
            <a:ext cx="0" cy="36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740720" y="2637000"/>
            <a:ext cx="0" cy="36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3276720" y="6093000"/>
            <a:ext cx="1582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3276720" y="2060280"/>
            <a:ext cx="0" cy="403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2060640"/>
            <a:ext cx="15825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508720" y="2637000"/>
            <a:ext cx="223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284720" y="2997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580000" y="2205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0" y="2854440"/>
            <a:ext cx="2160720" cy="503280"/>
          </a:xfrm>
          <a:prstGeom prst="parallelogram">
            <a:avLst>
              <a:gd name="adj" fmla="val 107332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ggi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516720" y="2997360"/>
            <a:ext cx="2627280" cy="502920"/>
          </a:xfrm>
          <a:prstGeom prst="parallelogram">
            <a:avLst>
              <a:gd name="adj" fmla="val 130601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ampa C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116000" y="4149720"/>
            <a:ext cx="0" cy="358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95280" y="4508640"/>
            <a:ext cx="1512720" cy="50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708360" y="3357720"/>
            <a:ext cx="2484360" cy="502920"/>
          </a:xfrm>
          <a:prstGeom prst="parallelogram">
            <a:avLst>
              <a:gd name="adj" fmla="val 12349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ggi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59280" y="4941720"/>
            <a:ext cx="0" cy="503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211640" y="4149720"/>
            <a:ext cx="1297080" cy="792000"/>
          </a:xfrm>
          <a:prstGeom prst="diamond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X &gt;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508720" y="4508640"/>
            <a:ext cx="1079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588000" y="4508640"/>
            <a:ext cx="0" cy="215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588000" y="5157720"/>
            <a:ext cx="0" cy="142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4859280" y="5300640"/>
            <a:ext cx="1728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Verdana"/>
              </a:rPr>
              <a:t>Visual Basic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6:49:59Z</dcterms:created>
  <dc:creator>.</dc:creator>
  <dc:description/>
  <dc:language>en-US</dc:language>
  <cp:lastModifiedBy>kali</cp:lastModifiedBy>
  <dcterms:modified xsi:type="dcterms:W3CDTF">2007-12-12T16:52:51Z</dcterms:modified>
  <cp:revision>112</cp:revision>
  <dc:subject/>
  <dc:title>Diapositiva 1</dc:title>
</cp:coreProperties>
</file>